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333-33C6-450C-BE40-591AD8CA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3A3-A440-481E-BE31-C03A0210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144-DB89-48C6-823B-CDC9DE1F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7C3-1E2B-43A2-B5A7-8986A5A7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A1C-7141-448E-BDD5-5A04030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149-8DD0-4B2E-A801-C4C473B1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C5E-42DF-401A-9EA5-73FFB4C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C79-7740-4D84-8592-EFEE439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739-726D-4D78-B63A-28FAFF4B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8E9-BE6F-42A9-8989-7E75618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AE4-DD6E-4CC1-8F67-3BFEAF9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CB0-2F0B-409C-B111-571955F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867A-96E3-462D-8DBE-1F7AEEC1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2473200"/>
            <a:ext cx="3048120" cy="173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precedenceIsNotLowerThan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4760" y="4683240"/>
            <a:ext cx="3048120" cy="15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double op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7760" y="504828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93040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960" y="660240"/>
            <a:ext cx="1752480" cy="100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ru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9600" y="1092240"/>
            <a:ext cx="137160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Typ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/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0840" y="1676520"/>
            <a:ext cx="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20840" y="328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76520"/>
            <a:ext cx="0" cy="38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537160"/>
            <a:ext cx="110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19640" y="334008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51196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20040" y="5486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50160" y="5499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000640" y="63244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001000" y="5892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32640" y="3365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3378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013600" y="420372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13600" y="377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78920" y="270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 Evaluator C++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08:49:43Z</dcterms:created>
  <dc:creator>TING</dc:creator>
  <dc:description/>
  <dc:language>en-US</dc:language>
  <cp:lastModifiedBy>TING</cp:lastModifiedBy>
  <dcterms:modified xsi:type="dcterms:W3CDTF">2001-02-28T09:07:24Z</dcterms:modified>
  <cp:revision>1</cp:revision>
  <dc:subject/>
  <dc:title>無投影片標題</dc:title>
</cp:coreProperties>
</file>